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319-D677-4F0C-8290-98E68E43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F0B-010A-4876-964E-FE8AFD5F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84D-EA77-4AB8-929F-E0F04AE5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2A7-1A9A-4FBB-B953-B81F1609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B9E-CEF3-41F2-B0DD-A5911598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68B-8AE6-45C2-BAAC-12D1B549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A53-9B9B-4F7B-9C26-11BFB407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505-7095-4725-BF3C-3063CC52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0B6-CDDC-489D-A888-18DB3FE6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E61-269D-4496-9F9C-B5D692C5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1C2-E737-4EC0-B7C1-5590731A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1CD-AB40-4A76-BFBF-050A0A95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B97F-18D9-497D-A051-6D7E13E40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cess-Independent FPGA Interconnect in Py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eph F. R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rocess-Independent FPGA Interconnect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PyCel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lean code to showcase PyC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ed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Cell is quite good but handles objects in a weird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OO structure is destroyed (flattened, burned, etc) after object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most out of PyCell, I set to fix th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nce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ly duplicates DloGen procedure, saving inter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vides method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track of and auto-completing routing l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ymmetrical abu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e Transi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the MyTransistorUnit in the tutorial, but provides many handy access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instead of, to get a transistor object’s drain rectang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: tran.getComp(-3).getRect1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ran.dr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T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C independent, but sti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gon-pu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the concept of “lanes” to which to tie to the Q or Q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internally manipulated after creation, e.g. adding spa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soft-tiled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oretically) Bitcell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polygon-pushed to achieve a simpler tiling (wasted too much time on thi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D, VSS, BL, and WL are auto-genera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Cell extension works as hop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Independent layout is quite easy, although polygon-pushing is still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out mostly complete, need to finish debugging lane anchoring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6:37:44Z</dcterms:created>
  <dc:creator>Joseph F. Ryan</dc:creator>
  <dc:description/>
  <dc:language>en-US</dc:language>
  <cp:lastModifiedBy>Joseph F. Ryan</cp:lastModifiedBy>
  <dcterms:modified xsi:type="dcterms:W3CDTF">2010-05-07T18:08:39Z</dcterms:modified>
  <cp:revision>10</cp:revision>
  <dc:subject/>
  <dc:title>A Process-Independent FPGA Interconnect in PyCell</dc:title>
</cp:coreProperties>
</file>